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41DF-0B31-4B8E-9CC9-FF7BF4D9C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3700-9819-432A-B5DD-4DEF1DF5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BE694E-163E-4E7E-A886-9AF7CAE5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FD59B8-0D4C-445E-A04C-6BA85427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08354F-3894-4805-9A7F-12375381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E6EF65-B4F7-4748-90BE-EFAE4D9A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634AEC-6DD5-4A2D-9E64-9CD855BF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E64BD3-B7AD-46FB-9E23-99200D8E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5404C5-CF76-4043-96D5-7957B20C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398A4A-9A2A-4D94-BE11-0D179B602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5F833B-6E22-4684-B65C-FA3A6B992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442367-4214-4C43-B75B-421528CDA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49EA-851F-4BF2-9462-9BD098AE6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8C1BAD-B0D8-4983-A574-ED84B98E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18D5C3-D582-4DD9-A227-5C9AA828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83A800-1D6C-49AF-9709-01EC926A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545EC3-6FA7-474F-9CE4-2518AB2A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B7192A-6393-4F14-976E-02DBEE06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2676B9-82A2-4114-B66B-4833FFC9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1EC34A-8170-44AD-A74F-3113ACCA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432C9-9FEF-4B9F-A1D1-BB309538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F479F0-0BAD-410D-B82B-8677F5AE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131733-D9A6-4997-BB2A-60D67D4EF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83C2-B406-43D6-B212-4F6734E97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6B7916-73AB-4DB5-8734-9A53E8DDD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DA040-2D07-4B7B-BDB0-E121AA9E3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7BDC7B-94E8-4515-B367-E395A200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8CFAB-2717-4A93-A91D-5D9D242D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0727F-3F11-41D5-ADE7-3195293C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71710-5B38-4C99-8905-919FF795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31837E-402C-415E-B897-5479FC95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22565C-0088-4F2E-BDDE-25EEC689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98983-F01F-43EA-A281-B9C11E66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07B4A-D56D-42FC-A84E-A766F846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6C706-AFFA-435B-BF10-FBDCB9B68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6EAC2-596E-45DB-ACA0-673F2AE5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128BB2-15EC-4BB9-9CF7-2FB53CB4E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082F99-9B6C-42BD-B9E3-4DC6C68D2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F63C42-D8D7-467A-AE0C-7D7965872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7C5729-BB78-4EB5-B855-DCC52F4B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EAFB69-CABC-4419-88BA-E814DC6A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7D48AA-4418-40EB-91F9-D3F481B1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2E289E-1512-47EA-89A2-A15567B7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855D2C-F052-40C8-982C-43C28E54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30EDF7-11C1-4774-9F95-B9901440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B42C-9E93-40CA-93D2-21F0E04D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104142-25F2-4ED2-815A-A287979D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1027A8-7C8C-49D5-92A7-902DB4AB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DEB089-0145-4151-8C91-E7BD7887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C8B532-4A40-48B7-B2E7-A91E90014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A6DE81-BC8A-4419-9C8C-09629A8A6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2094-F85A-41DF-8ADE-C22DA5CC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8295-EE28-4807-8669-C4837A7C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92E1-6528-474A-A04B-3156B869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3A22-840C-4BD3-BEC9-E5AC15E8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44167-9E3B-4F1C-BB32-4FE06F0D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7AAD-01C7-435C-8181-043898AA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EF68F-9B10-4892-9E75-1723BC49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0CDBF-F083-45C5-AD81-EAC30EB2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C2D3-3B4A-4CA3-950B-AD1F32DA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B3480-C347-42CB-8D07-D444DC536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8D0C-B423-424B-AD54-7D2A22DD4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75F92-3CD3-405A-8268-B26FB6F66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F2C09-8B87-4896-9783-0790FE49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BAE6C-1D1D-4D5F-8597-7A186FEB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2FC7C-52D8-42B8-B2C1-2F5F2BA4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B01D4-33A0-4F0D-A95A-D80FEF31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1D7F-1B27-4F2E-8BA4-3A9A71A1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99988-FE35-4A97-8017-A573A27C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5CC1E-0F4B-4CC1-AF5F-9DA17CA2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93944-8A7E-4706-B27C-E19244A8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35FF2-444E-46A4-BFC9-1578D3CE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31DDA-98C2-425D-B810-05802E73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B61AB-AD8F-4FA7-B833-28DC53833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102EB-0666-49C6-92BC-AC41CB74C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BDA44-ACF3-4427-BAF5-81ED3783A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E0FBB-3AD6-4D50-8785-1D5C6BF7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23109-0ACB-4A11-B89B-B1AC432E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3C61-AFA1-48D5-939A-7F3A7D8E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492FA-1241-40F1-BEB6-DD17AA37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31690-C421-4275-90CD-B5FBAF0E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23297-093C-4725-89B8-8400AC43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95E33-3EFA-4913-9766-B4AB99D0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79BEA-43D7-44BD-8204-0AC66E7A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16A61-FA37-42CF-A2A1-11E2AC3E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BD8CB-9ABB-4228-B711-E09B6486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77734-D20D-414B-99B4-167EDE7FE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9CAC7-7DC7-4260-839B-0702FEE2A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7605C-D1F5-403A-86E0-6D9712AFF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79B2-CB7F-4E04-B5C1-23C0F889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910D7-4018-4A0C-8D36-5592325F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905E8-EDB9-4267-B450-9D33F5F0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0744F-E549-41CD-BCDD-AF7F49C1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80787-D3E4-48AB-A485-E52E3F45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F7497-22A9-44E6-810C-7A8BD1BE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05265-4C1F-4848-8F60-3E3C420B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AB32D-2A15-45FE-8EE6-196A93A1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487EF-191F-47C8-B9D0-C123CEF0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8C54D-1C9B-4620-8C65-5738B05C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D7666-E013-4614-8ED7-2F01FF713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6A9E-8BB9-41F8-A76C-C1835513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A2453-EAFA-4287-9CBA-8BA029F40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7A198-1534-40E2-AB72-32A382177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D56B0-8F71-4D63-BF1E-61B044F4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5C3AA-4883-47C9-89DE-0271D857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A5DD7-714D-4E68-9074-C1EC4ABE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59AD9-409F-4452-8ED5-EEBF6009A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BA206-53D0-445E-9485-2F54F57F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46374-88ED-4A2B-92B3-6EFCA106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C7B46-B10A-4A25-BDC4-0E72DF35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3C3C3-1F0B-4C74-B9FD-D401E2F0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3FAC-099F-4D50-9F78-82E30336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6AD4C-B34C-484A-8FBE-8A3C1923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0E31A-334B-47F4-9DFD-0A953E138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5639A-8C8B-4BE1-96B7-188BEA474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67657-A19D-41B8-8180-575F75ADE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D710E-65C1-4515-9BD1-7DF1EA1C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10F7F-B664-4709-943A-6176A72E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F2523-6CEE-40CA-ABF4-F9504731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C0A05-5E75-4ACD-A301-AD3C3676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B67A0-CF42-4722-8710-F189FA33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525AF-2FD6-4A33-A880-1A6BF167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1912-147A-47F9-BFDE-4112EA55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A22FC-FABD-4304-BCD7-56F12653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CAC2A-6766-4AF6-A53D-AE28B8CB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5C484-2BB5-41B3-A8C0-9758DD8E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F3A55-9595-4FFA-954C-C8C625487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B2135-5081-4833-853A-5875AE7A4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0C34C-E428-499A-B80F-F4D578041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25391-C1C6-4C10-BDBE-07890D6A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78494-9C4A-4500-9BC0-3C2225B1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17D37-C3CA-4278-AE31-DFA9E976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BFB41-68A8-465D-AF64-C79396AC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0034-AFBD-4D3A-95E5-3688514B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08619-46EE-44DC-9C27-0EA327D2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EFBCE-031F-4D74-9CF4-F4273BE3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C57A3-C680-4FE0-B748-FBABDB6B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CDB65-8CB5-4245-84A7-EF629DD5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D5226-C981-4087-8716-14B94142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03A1D-644E-4B39-8272-416E2DC50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6EAF2-9CDE-418C-9BF2-D93A67953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957365-46A6-4ADE-A696-82BD41D13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7C3146-171C-415A-B549-C71AE91A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262B3-0D0A-45AD-88BD-E3762B92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BEC6-B870-45EB-A0B1-9342006B97B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EC00-1F90-4744-9CB7-7E03A927E80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BEE2-6A07-4472-A760-A52542E5FC4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84A4-487F-4715-B2AB-B09CD9D1B0F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E715-A4C6-458B-AA41-F21DDFCAE06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D3B8-9453-46B3-86DA-C3B0AB313BA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FC2C-2787-4A77-8B4E-060C623352F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5839-E888-4DC0-B5F7-A3399B71D79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3A7F-5F52-44A2-9FB2-09EE7B1A444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4B5C-18C3-4B85-AEE4-2B1056EF57D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131F-D361-49D5-AE76-94FF91727A3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9FAE-741F-4566-98C6-6E440F383D7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53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o viac mo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o Pan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Čo viac možno, P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a tom svete m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ež tej tvojej láske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smi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sa odovzda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a mňa šiel si na kríž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 kalich múk pi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by som z tvojej lásky a dobroty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il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Čím dlh vďaky splatí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a milosti dar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 sľub, že raz uzrie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tú presvätú tvár,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čo pre moju vin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mrť podstúpil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 mne život večn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tým vydobyla?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u i vo večn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len tvojím chcem by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 s vykúpeným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am v sláve ťa cti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de nebude stra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bied, rán, súženi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tej blaženej vla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bez sĺz, lúčenia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ríď, Pane náš drah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 zjav svoju moc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ech navždy sa skonč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la desivá no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 svitne deň slávn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en čas vzkrieseni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eď vzdáme ti vďak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za dar spasenia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7:13:24Z</dcterms:modified>
  <cp:revision>23</cp:revision>
  <dc:subject/>
  <dc:title>Je veľký náš Pán, on slávy je Kráľ Nech do všetkých strán  spev vrúcnych znie chvál.</dc:title>
</cp:coreProperties>
</file>